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6E12-22E1-4230-A88A-6F41FB4C1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3B4F-EAB5-4E7A-9394-78206A6B7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4D78-A10D-44F1-850C-20D2DE904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46DD-945F-49E4-8BD4-973F7D44D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E9D6-1A6A-4247-A599-C8D9B30C3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5DA3-7459-49DE-ADC9-75A32C658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F1A9-F0EB-4557-B22A-C64BC9E56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69AF-4285-47E4-A597-B0094411A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0EC8-5F4B-4E45-ABA0-E59D3B0C7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14AF-C4F8-451C-9678-6BB55AD3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B032-B418-4DC2-9F03-741D43837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8A64-FB06-427F-BFF2-3C4D60E64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3A69D-D459-4C6C-A525-91CAD7F959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russianflag.jpg"/>
          <p:cNvPicPr/>
          <p:nvPr/>
        </p:nvPicPr>
        <p:blipFill>
          <a:blip r:embed="rId1"/>
          <a:stretch/>
        </p:blipFill>
        <p:spPr>
          <a:xfrm>
            <a:off x="152280" y="228600"/>
            <a:ext cx="8610840" cy="64771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Present Day Rus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Lucia Buzzell, Sacha Ivanov, and Hunter Weinber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ssia is both a democracy and federal republ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 is divided between national; and state governments with a president who leads the 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9" descr="dym itry"/>
          <p:cNvPicPr/>
          <p:nvPr/>
        </p:nvPicPr>
        <p:blipFill>
          <a:blip r:embed="rId1"/>
          <a:stretch/>
        </p:blipFill>
        <p:spPr>
          <a:xfrm>
            <a:off x="4876920" y="3886200"/>
            <a:ext cx="2262240" cy="2590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vladimeer"/>
          <p:cNvPicPr/>
          <p:nvPr/>
        </p:nvPicPr>
        <p:blipFill>
          <a:blip r:embed="rId2"/>
          <a:stretch/>
        </p:blipFill>
        <p:spPr>
          <a:xfrm>
            <a:off x="1154160" y="3886200"/>
            <a:ext cx="14889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c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ssia is a market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vernment no longer sets prices on food or other g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er prices make it harder to buy necessities, like food and cloth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-685800" y="3352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1" name="Picture 7" descr="russiancurrency.bmp"/>
          <p:cNvPicPr/>
          <p:nvPr/>
        </p:nvPicPr>
        <p:blipFill>
          <a:blip r:embed="rId1"/>
          <a:stretch/>
        </p:blipFill>
        <p:spPr>
          <a:xfrm>
            <a:off x="4443480" y="4575240"/>
            <a:ext cx="2514600" cy="16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9" descr="humidcontinenta;.jpg"/>
          <p:cNvPicPr/>
          <p:nvPr/>
        </p:nvPicPr>
        <p:blipFill>
          <a:blip r:embed="rId1"/>
          <a:stretch/>
        </p:blipFill>
        <p:spPr>
          <a:xfrm>
            <a:off x="4724280" y="1371600"/>
            <a:ext cx="4038840" cy="2666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teppe.jpg"/>
          <p:cNvPicPr/>
          <p:nvPr/>
        </p:nvPicPr>
        <p:blipFill>
          <a:blip r:embed="rId2"/>
          <a:stretch/>
        </p:blipFill>
        <p:spPr>
          <a:xfrm>
            <a:off x="4724280" y="4068720"/>
            <a:ext cx="4010040" cy="2789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subarctoic.jpg"/>
          <p:cNvPicPr/>
          <p:nvPr/>
        </p:nvPicPr>
        <p:blipFill>
          <a:blip r:embed="rId3"/>
          <a:stretch/>
        </p:blipFill>
        <p:spPr>
          <a:xfrm>
            <a:off x="457200" y="4060800"/>
            <a:ext cx="3886200" cy="2797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tundra.jpg"/>
          <p:cNvPicPr/>
          <p:nvPr/>
        </p:nvPicPr>
        <p:blipFill>
          <a:blip r:embed="rId4"/>
          <a:stretch/>
        </p:blipFill>
        <p:spPr>
          <a:xfrm>
            <a:off x="457200" y="1333440"/>
            <a:ext cx="3962520" cy="28465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limate Types In Rus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undra-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vast treeless plain in high latitude climates in which only several of the top inches of ice thaws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barctic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ttern of weather characterized by bitter winters and cool sum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76920" y="1371240"/>
            <a:ext cx="403848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Humid Continental- 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pattern of weather characterized by cold long snowy winters and hot short summ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Steppe-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dry grassland often found on the edges of a des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edical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fe expectancy has fa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ing number in both cancer and lung dis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lution causes harm to Russians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inhaler.jpg"/>
          <p:cNvPicPr/>
          <p:nvPr/>
        </p:nvPicPr>
        <p:blipFill>
          <a:blip r:embed="rId1"/>
          <a:stretch/>
        </p:blipFill>
        <p:spPr>
          <a:xfrm rot="727200">
            <a:off x="6019920" y="4038480"/>
            <a:ext cx="1971720" cy="2324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smokestack.jpg"/>
          <p:cNvPicPr/>
          <p:nvPr/>
        </p:nvPicPr>
        <p:blipFill>
          <a:blip r:embed="rId2"/>
          <a:stretch/>
        </p:blipFill>
        <p:spPr>
          <a:xfrm rot="21121200">
            <a:off x="1066320" y="4191120"/>
            <a:ext cx="281952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7" descr="tent"/>
          <p:cNvPicPr/>
          <p:nvPr/>
        </p:nvPicPr>
        <p:blipFill>
          <a:blip r:embed="rId1"/>
          <a:stretch/>
        </p:blipFill>
        <p:spPr>
          <a:xfrm>
            <a:off x="5638680" y="1868400"/>
            <a:ext cx="1533600" cy="9511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aily 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2286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ssians enjoy, hiking, camping, and mountain climb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love soccer and tenn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enjoy skiing, skating, and playing ice hoc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soccer ball.jpg"/>
          <p:cNvPicPr/>
          <p:nvPr/>
        </p:nvPicPr>
        <p:blipFill>
          <a:blip r:embed="rId2"/>
          <a:stretch/>
        </p:blipFill>
        <p:spPr>
          <a:xfrm>
            <a:off x="533520" y="4724280"/>
            <a:ext cx="1838160" cy="1838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skates"/>
          <p:cNvPicPr/>
          <p:nvPr/>
        </p:nvPicPr>
        <p:blipFill>
          <a:blip r:embed="rId3"/>
          <a:stretch/>
        </p:blipFill>
        <p:spPr>
          <a:xfrm>
            <a:off x="5715000" y="3733920"/>
            <a:ext cx="175248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ul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0% of population speaks Russ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amount of ethnic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rural areas most people live in wood ho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urbs are develo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5% of people live in cit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st"/>
          <p:cNvPicPr/>
          <p:nvPr/>
        </p:nvPicPr>
        <p:blipFill>
          <a:blip r:embed="rId1"/>
          <a:stretch/>
        </p:blipFill>
        <p:spPr>
          <a:xfrm>
            <a:off x="5257800" y="5054760"/>
            <a:ext cx="2209680" cy="14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4:54:35Z</dcterms:created>
  <dc:creator>michael buzzell</dc:creator>
  <dc:description/>
  <dc:language>en-US</dc:language>
  <cp:lastModifiedBy>michael buzzell</cp:lastModifiedBy>
  <dcterms:modified xsi:type="dcterms:W3CDTF">2010-12-14T14:39:52Z</dcterms:modified>
  <cp:revision>8</cp:revision>
  <dc:subject/>
  <dc:title>Present Day Russia</dc:title>
</cp:coreProperties>
</file>